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4D42-992F-4C3C-A8B3-EAA22E4CB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59A5-DE43-42C7-BE6C-571FA202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1A98-CCD5-4411-AB70-E3FEDDDC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0DF-39EF-46E5-B61F-DFB93BD8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D26-A4A1-4BE2-A18A-1139A642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2EE-6F89-4128-9107-9A37E657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93B-115D-43C3-93C1-9D20F024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F1E-CB38-4073-9A74-8392773B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285-919A-4A8D-9629-5C10EF3A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055-560E-439B-8A84-BB6679BF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1B6-C410-4A53-A0A5-FF950FB6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858-D0F9-485D-A9A0-12C39ABE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B56-07B7-4B33-9BC8-DED7DDC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A94-FACB-46B0-9A2C-BFDB4969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6B9-C69C-48BC-8638-2C0E24F2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CE37-981E-4A58-A8BD-EE449C44C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lejandra  and  Joce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2049650\Local Settings\Temporary Internet Files\Content.IE5\T7MUVQC1\MP900427992[1].jpg"/>
          <p:cNvPicPr/>
          <p:nvPr/>
        </p:nvPicPr>
        <p:blipFill>
          <a:blip r:embed="rId1"/>
          <a:stretch/>
        </p:blipFill>
        <p:spPr>
          <a:xfrm>
            <a:off x="1066680" y="2666880"/>
            <a:ext cx="807732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MS910220003[1].wav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06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al Ree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ho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 gr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w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240" y="9903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al Reefs are in the ocean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is some Information . Fir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lor is  mostly red and blue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 they can live up to 70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d . Last, 25 % of the  Coral Ree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disappearing because  of 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lution of the ocean. 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st is the Great  Barrier Reef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 about  2,500 kilometers long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t’s found  in Austral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C:\Documents and Settings\2049650\Local Settings\Temporary Internet Files\Content.IE5\BFKGQQB1\MP900441101[1].jpg"/>
          <p:cNvPicPr/>
          <p:nvPr/>
        </p:nvPicPr>
        <p:blipFill>
          <a:blip r:embed="rId1"/>
          <a:stretch/>
        </p:blipFill>
        <p:spPr>
          <a:xfrm>
            <a:off x="5715000" y="1981080"/>
            <a:ext cx="3124080" cy="4686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al  Ree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MS900069643[1].wav" descr=""/>
          <p:cNvPicPr/>
          <p:nvPr/>
        </p:nvPicPr>
        <p:blipFill>
          <a:blip r:embed="rId2"/>
          <a:stretch/>
        </p:blipFill>
        <p:spPr>
          <a:xfrm>
            <a:off x="4648320" y="5715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8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114300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 sharks live in eve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ean of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 is som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sharks. First, the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 sharp teeth. They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dangerous. Also,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ks  eat alone. The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 carnivores. They e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phins and seals.  The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have  5 to 7 gills on ea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de of their bod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C:\Documents and Settings\2049650\Local Settings\Temporary Internet Files\Content.IE5\5L6GU90U\MM900365151[1].gif"/>
          <p:cNvPicPr/>
          <p:nvPr/>
        </p:nvPicPr>
        <p:blipFill>
          <a:blip r:embed="rId1"/>
          <a:stretch/>
        </p:blipFill>
        <p:spPr>
          <a:xfrm>
            <a:off x="4648320" y="1523880"/>
            <a:ext cx="4132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1523520"/>
            <a:ext cx="4267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ahorse lives in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ean.  First, they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n.  Seahorses 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1,000 babies.  Als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ther  carries  the eg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 his pocket.  Last ,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 horses  like shall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ho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2049650\Local Settings\Temporary Internet Files\Content.IE5\5L6GU90U\MC900346975[1].wmf"/>
          <p:cNvPicPr/>
          <p:nvPr/>
        </p:nvPicPr>
        <p:blipFill>
          <a:blip r:embed="rId1"/>
          <a:stretch/>
        </p:blipFill>
        <p:spPr>
          <a:xfrm>
            <a:off x="5486400" y="1828800"/>
            <a:ext cx="2876400" cy="389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a grasses are at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 of the ocea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, the grasses are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 green. Also, it 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 6 inches tall . Las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 help small anim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e from their enem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the  seawe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 gr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www.onr.navy.mil/focus/ocean/images/habitats/seagrass.jpg"/>
          <p:cNvPicPr/>
          <p:nvPr/>
        </p:nvPicPr>
        <p:blipFill>
          <a:blip r:embed="rId1"/>
          <a:stretch/>
        </p:blipFill>
        <p:spPr>
          <a:xfrm>
            <a:off x="4724280" y="1447920"/>
            <a:ext cx="4407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ctopuses live in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ean.  First, the octop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8 legs.  Next, they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nivorous.   Octopu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t  turtles and crab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, they are member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llusk family.  The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 weigh 6.6 to  22lb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top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7" descr="octopus.jpg"/>
          <p:cNvPicPr/>
          <p:nvPr/>
        </p:nvPicPr>
        <p:blipFill>
          <a:blip r:embed="rId1"/>
          <a:stretch/>
        </p:blipFill>
        <p:spPr>
          <a:xfrm>
            <a:off x="4876920" y="1447920"/>
            <a:ext cx="3887640" cy="4495680"/>
          </a:xfrm>
          <a:prstGeom prst="rect">
            <a:avLst/>
          </a:prstGeom>
          <a:ln w="0">
            <a:noFill/>
          </a:ln>
        </p:spPr>
      </p:pic>
      <p:pic>
        <p:nvPicPr>
          <p:cNvPr id="72" name="MS900069592[1].wav" descr=""/>
          <p:cNvPicPr/>
          <p:nvPr/>
        </p:nvPicPr>
        <p:blipFill>
          <a:blip r:embed="rId2"/>
          <a:stretch/>
        </p:blipFill>
        <p:spPr>
          <a:xfrm>
            <a:off x="6477120" y="62485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3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aweed is a type  of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in the ocean. Firs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 can grow  1 feet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inches tall .Next, it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 at the  bottom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 sea. Last, some fis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 their  from the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mies . They h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ts. The roots are 2 fee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e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w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http://everystockphoto.s3.amazonaws.com/green_seaweed_beach_222269_l.jpg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ean 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724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1:38Z</dcterms:created>
  <dc:creator>user</dc:creator>
  <dc:description/>
  <dc:language>en-US</dc:language>
  <cp:lastModifiedBy>user</cp:lastModifiedBy>
  <dcterms:modified xsi:type="dcterms:W3CDTF">2011-03-24T20:56:21Z</dcterms:modified>
  <cp:revision>35</cp:revision>
  <dc:subject/>
  <dc:title>Title</dc:title>
</cp:coreProperties>
</file>